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404-6F0B-4CF9-A922-0E560D16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914040"/>
            <a:ext cx="842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3381840"/>
            <a:ext cx="842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73B-938E-4F78-9AB0-9DC77293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914040"/>
            <a:ext cx="4108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914040"/>
            <a:ext cx="4108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3381840"/>
            <a:ext cx="4108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3381840"/>
            <a:ext cx="4108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300-A164-473F-82EC-4BEF6460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914040"/>
            <a:ext cx="271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914040"/>
            <a:ext cx="271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914040"/>
            <a:ext cx="271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3381840"/>
            <a:ext cx="271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3381840"/>
            <a:ext cx="271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3381840"/>
            <a:ext cx="271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63C-FB26-4903-9116-094C2D33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9140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1FB-2F76-4470-886C-9E01456E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9140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0FE-4CB2-41E4-8201-A19528B1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914040"/>
            <a:ext cx="4108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914040"/>
            <a:ext cx="4108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227-66BD-4516-A825-CFBBF694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99C-6F82-4DBE-AA85-BCD4D65D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19920"/>
            <a:ext cx="84200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524-8B9E-4363-B12F-5842D8C7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914040"/>
            <a:ext cx="4108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914040"/>
            <a:ext cx="4108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3381840"/>
            <a:ext cx="4108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986-B3BC-45AB-BF8D-4FECA4EE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914040"/>
            <a:ext cx="4108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914040"/>
            <a:ext cx="4108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3381840"/>
            <a:ext cx="4108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F71-280D-4912-AB19-AE85982D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914040"/>
            <a:ext cx="4108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914040"/>
            <a:ext cx="4108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3381840"/>
            <a:ext cx="842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9F4-D96B-4BA2-A003-7F784283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明朝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9140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880" y="6476760"/>
            <a:ext cx="8382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43680" y="6476760"/>
            <a:ext cx="85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8C04-F7B9-47CD-B504-3886E7B11287}" type="slidenum"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2920" y="914040"/>
            <a:ext cx="9162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「心大血管疾患リハビリテーション料」</a:t>
            </a:r>
            <a:br>
              <a:rPr sz="4400"/>
            </a:br>
            <a:r>
              <a:rPr b="1" lang="ja-JP" sz="4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についてのアンケート調査</a:t>
            </a:r>
            <a:endParaRPr b="0" lang="en-US" sz="44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5720" y="4495680"/>
            <a:ext cx="6933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特定非営利活動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日本心臓リハビリテーション学会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019920"/>
            <a:ext cx="811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9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心大血管疾患リハビリテーション料を算定していない理由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43040" y="1219320"/>
          <a:ext cx="842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219320"/>
                    <a:ext cx="842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9528840" y="6589800"/>
            <a:ext cx="36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Ⅲ</a:t>
            </a: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43040" y="1143000"/>
          <a:ext cx="842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143000"/>
                    <a:ext cx="842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019920"/>
            <a:ext cx="8191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10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スタッフ不足の内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複数回答あり）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79" name=""/>
          <p:cNvSpPr/>
          <p:nvPr/>
        </p:nvSpPr>
        <p:spPr>
          <a:xfrm>
            <a:off x="9528840" y="6589800"/>
            <a:ext cx="36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Ⅲ</a:t>
            </a: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19920"/>
            <a:ext cx="8191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11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施設備品不足の内訳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43040" y="1219320"/>
          <a:ext cx="842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219320"/>
                    <a:ext cx="842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9528840" y="6589800"/>
            <a:ext cx="36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Ⅲ</a:t>
            </a: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6172200"/>
            <a:ext cx="8267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12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スタッフの役割分担の状況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複数回答あり）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46280" y="380880"/>
          <a:ext cx="842004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380880"/>
                    <a:ext cx="84200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6019920"/>
            <a:ext cx="704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13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訓練室の面積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838080"/>
            <a:ext cx="8610480" cy="4861080"/>
            <a:chOff x="685800" y="838080"/>
            <a:chExt cx="8610480" cy="4861080"/>
          </a:xfrm>
        </p:grpSpPr>
        <p:graphicFrame>
          <p:nvGraphicFramePr>
            <p:cNvPr id="89" name=""/>
            <p:cNvGraphicFramePr/>
            <p:nvPr/>
          </p:nvGraphicFramePr>
          <p:xfrm>
            <a:off x="685800" y="838080"/>
            <a:ext cx="8610480" cy="486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838080"/>
                      <a:ext cx="8610480" cy="486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4686840" y="3262320"/>
              <a:ext cx="8114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回答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単位：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ja-JP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6019920"/>
            <a:ext cx="8191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14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施設に配備されている備品の配置場所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43040" y="914400"/>
          <a:ext cx="842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914400"/>
                    <a:ext cx="842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095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15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運動負荷試験装置として準備している器具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990720"/>
          <a:ext cx="8991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991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019920"/>
            <a:ext cx="8191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16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評価の算定方法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46280" y="482760"/>
          <a:ext cx="8420040" cy="55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482760"/>
                    <a:ext cx="842004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0" y="6019920"/>
            <a:ext cx="6819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17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運動処方箋作成料について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934920"/>
          <a:ext cx="8381880" cy="47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34920"/>
                    <a:ext cx="838188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457200" y="762120"/>
            <a:ext cx="9067320" cy="4952520"/>
            <a:chOff x="457200" y="762120"/>
            <a:chExt cx="9067320" cy="4952520"/>
          </a:xfrm>
        </p:grpSpPr>
        <p:graphicFrame>
          <p:nvGraphicFramePr>
            <p:cNvPr id="105" name=""/>
            <p:cNvGraphicFramePr/>
            <p:nvPr/>
          </p:nvGraphicFramePr>
          <p:xfrm>
            <a:off x="457200" y="762120"/>
            <a:ext cx="9067320" cy="4952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762120"/>
                      <a:ext cx="9067320" cy="49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4597560" y="323820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回答者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5640" y="6095520"/>
            <a:ext cx="704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18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妥当と考えられる運動処方箋作成料（点）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109" name=""/>
          <p:cNvSpPr/>
          <p:nvPr/>
        </p:nvSpPr>
        <p:spPr>
          <a:xfrm>
            <a:off x="4747680" y="3630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単位：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6019920"/>
            <a:ext cx="6781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1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回答施設の心大血管疾患リハビリテーション料届出状況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43040" y="838080"/>
          <a:ext cx="8420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38080"/>
                    <a:ext cx="8420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601992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19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妥当と考えられるトレッドミル負荷試験料（点）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09480" y="1143000"/>
            <a:ext cx="8610840" cy="4648320"/>
            <a:chOff x="609480" y="1143000"/>
            <a:chExt cx="8610840" cy="4648320"/>
          </a:xfrm>
        </p:grpSpPr>
        <p:graphicFrame>
          <p:nvGraphicFramePr>
            <p:cNvPr id="112" name=""/>
            <p:cNvGraphicFramePr/>
            <p:nvPr/>
          </p:nvGraphicFramePr>
          <p:xfrm>
            <a:off x="609480" y="1143000"/>
            <a:ext cx="8610840" cy="464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143000"/>
                      <a:ext cx="8610840" cy="464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4474800" y="3117240"/>
              <a:ext cx="95472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回答者 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1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単位：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6019920"/>
            <a:ext cx="5486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20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妥当と考えられる心肺運動負荷試験料（点）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28600" y="533520"/>
            <a:ext cx="9295920" cy="5257440"/>
            <a:chOff x="228600" y="533520"/>
            <a:chExt cx="9295920" cy="5257440"/>
          </a:xfrm>
        </p:grpSpPr>
        <p:graphicFrame>
          <p:nvGraphicFramePr>
            <p:cNvPr id="117" name=""/>
            <p:cNvGraphicFramePr/>
            <p:nvPr/>
          </p:nvGraphicFramePr>
          <p:xfrm>
            <a:off x="228600" y="533520"/>
            <a:ext cx="9295920" cy="525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533520"/>
                      <a:ext cx="9295920" cy="52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4358880" y="2939400"/>
              <a:ext cx="95472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回答者 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1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単位：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17220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21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施設認定の基準について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609480"/>
          <a:ext cx="89154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89154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22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訓練室の面積について（病院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45m</a:t>
            </a:r>
            <a:r>
              <a:rPr b="0" lang="ja-JP" sz="1600" spc="-1" strike="noStrike" baseline="30000">
                <a:solidFill>
                  <a:srgbClr val="000000"/>
                </a:solidFill>
                <a:latin typeface="ＭＳ Ｐ明朝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,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診療所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30m</a:t>
            </a:r>
            <a:r>
              <a:rPr b="0" lang="ja-JP" sz="1600" spc="-1" strike="noStrike" baseline="30000">
                <a:solidFill>
                  <a:srgbClr val="000000"/>
                </a:solidFill>
                <a:latin typeface="ＭＳ Ｐ明朝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以上）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4920" y="1066680"/>
            <a:ext cx="9067680" cy="4833360"/>
            <a:chOff x="304920" y="1066680"/>
            <a:chExt cx="9067680" cy="4833360"/>
          </a:xfrm>
        </p:grpSpPr>
        <p:graphicFrame>
          <p:nvGraphicFramePr>
            <p:cNvPr id="125" name=""/>
            <p:cNvGraphicFramePr/>
            <p:nvPr/>
          </p:nvGraphicFramePr>
          <p:xfrm>
            <a:off x="304920" y="1066680"/>
            <a:ext cx="9067680" cy="472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066680"/>
                      <a:ext cx="9067680" cy="472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>
              <a:off x="8769600" y="55627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施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1992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23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備品の配置場所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762120"/>
          <a:ext cx="921996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92199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720" y="594360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24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希望点数（施設Ⅰ）（点／単位）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685800"/>
            <a:ext cx="9468000" cy="5029200"/>
            <a:chOff x="228600" y="685800"/>
            <a:chExt cx="9468000" cy="5029200"/>
          </a:xfrm>
        </p:grpSpPr>
        <p:graphicFrame>
          <p:nvGraphicFramePr>
            <p:cNvPr id="133" name=""/>
            <p:cNvGraphicFramePr/>
            <p:nvPr/>
          </p:nvGraphicFramePr>
          <p:xfrm>
            <a:off x="228600" y="685800"/>
            <a:ext cx="9468000" cy="502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685800"/>
                      <a:ext cx="9468000" cy="502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>
              <a:off x="4669560" y="3200400"/>
              <a:ext cx="8524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回答者 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単位：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5943600"/>
            <a:ext cx="4952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25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希望点数（施設Ⅱ）（点／単位）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80880" y="762120"/>
            <a:ext cx="8991720" cy="5029200"/>
            <a:chOff x="380880" y="762120"/>
            <a:chExt cx="8991720" cy="5029200"/>
          </a:xfrm>
        </p:grpSpPr>
        <p:graphicFrame>
          <p:nvGraphicFramePr>
            <p:cNvPr id="138" name=""/>
            <p:cNvGraphicFramePr/>
            <p:nvPr/>
          </p:nvGraphicFramePr>
          <p:xfrm>
            <a:off x="380880" y="762120"/>
            <a:ext cx="8991720" cy="502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762120"/>
                      <a:ext cx="8991720" cy="502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4477320" y="3054600"/>
              <a:ext cx="85248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回答者 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単位：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04920" y="1066680"/>
          <a:ext cx="91440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91440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26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心大血管疾患リハビリテーションの経験ある医師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27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心大血管疾患リハビリテーションの経験ある看護師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990720"/>
          <a:ext cx="89917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9917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6019920"/>
            <a:ext cx="842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28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心大血管疾患リハビリテーションの経験ある理学療法士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80880" y="990720"/>
          <a:ext cx="9068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9068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143760"/>
            <a:ext cx="84200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．回答施設の地域分布と施設認定状況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533520"/>
          <a:ext cx="921996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92199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6240" y="609120"/>
            <a:ext cx="819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表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1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Times New Roman"/>
              </a:rPr>
              <a:t>算定に関わるスタッフ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838080" y="1219320"/>
          <a:ext cx="8420400" cy="4800600"/>
        </p:xfrm>
        <a:graphic>
          <a:graphicData uri="http://schemas.openxmlformats.org/drawingml/2006/table">
            <a:tbl>
              <a:tblPr/>
              <a:tblGrid>
                <a:gridCol w="2806920"/>
                <a:gridCol w="2806560"/>
                <a:gridCol w="2806920"/>
              </a:tblGrid>
              <a:tr h="86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　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勤（専任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非常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環器内科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心臓血管外科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　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勤専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非専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看護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理学療法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4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表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2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Times New Roman"/>
              </a:rPr>
              <a:t>心臓リハに関わっているコメディカルスタッフ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43040" y="1143000"/>
          <a:ext cx="8420040" cy="4724280"/>
        </p:xfrm>
        <a:graphic>
          <a:graphicData uri="http://schemas.openxmlformats.org/drawingml/2006/table">
            <a:tbl>
              <a:tblPr/>
              <a:tblGrid>
                <a:gridCol w="2806560"/>
                <a:gridCol w="2806920"/>
                <a:gridCol w="2806560"/>
              </a:tblGrid>
              <a:tr h="59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職　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　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非常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臨床検査技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管理栄養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業療法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保健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医療社会福祉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薬剤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臨床工学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施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5943240"/>
            <a:ext cx="78105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．回答病院の標榜診療科、院内施設、手術の状況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43040" y="914400"/>
          <a:ext cx="842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914400"/>
                    <a:ext cx="842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5640" y="58672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4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心大血管疾患リハビリテーション料の算定状況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43040" y="609480"/>
          <a:ext cx="8420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09480"/>
                    <a:ext cx="8420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9528840" y="6589800"/>
            <a:ext cx="36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Ⅲ</a:t>
            </a: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6019920"/>
            <a:ext cx="7029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5.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月の診療報酬改定前の「心疾患リハビリテーション料」算定状況</a:t>
            </a:r>
            <a:r>
              <a:rPr b="0" lang="ja-JP" sz="1800" spc="-1" strike="noStrike">
                <a:solidFill>
                  <a:srgbClr val="000000"/>
                </a:solidFill>
                <a:latin typeface="ＭＳ Ｐ明朝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1066680"/>
          <a:ext cx="8420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8420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528840" y="6589800"/>
            <a:ext cx="36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Ⅲ</a:t>
            </a: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867280"/>
            <a:ext cx="840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6.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平成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月の診療報酬改定前には「心疾患リハビリテーション料」を算定していて、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心大血管疾患リハビリテーション料を算定しなくなった理由</a:t>
            </a:r>
            <a:endParaRPr b="0" lang="en-US" sz="14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914400"/>
          <a:ext cx="89154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915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528840" y="6589800"/>
            <a:ext cx="36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Ⅲ</a:t>
            </a: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19920"/>
            <a:ext cx="8191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7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スタッフ不足の内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複数回答あり）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43040" y="914400"/>
          <a:ext cx="842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914400"/>
                    <a:ext cx="842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9528840" y="6589800"/>
            <a:ext cx="36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Ⅲ</a:t>
            </a: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43200" y="6019920"/>
            <a:ext cx="5486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8.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今後算定を考えているか</a:t>
            </a:r>
            <a:endParaRPr b="0" lang="en-US" sz="1600" spc="-1" strike="noStrike">
              <a:solidFill>
                <a:srgbClr val="000000"/>
              </a:solidFill>
              <a:latin typeface="ＭＳ Ｐ明朝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43040" y="914400"/>
          <a:ext cx="842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914400"/>
                    <a:ext cx="842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9528840" y="6589800"/>
            <a:ext cx="36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Ⅲ</a:t>
            </a:r>
            <a:r>
              <a:rPr b="0" lang="en-US" sz="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21:01:05Z</dcterms:created>
  <dc:creator>小山照幸</dc:creator>
  <dc:description/>
  <dc:language>en-US</dc:language>
  <cp:lastModifiedBy>（株）堀越</cp:lastModifiedBy>
  <dcterms:modified xsi:type="dcterms:W3CDTF">2008-04-08T02:59:28Z</dcterms:modified>
  <cp:revision>52</cp:revision>
  <dc:subject/>
  <dc:title>「心大血管疾患リハビリテーション料」 についてのアンケート調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0471471</vt:r8>
  </property>
  <property fmtid="{D5CDD505-2E9C-101B-9397-08002B2CF9AE}" pid="3" name="_AuthorEmail">
    <vt:lpwstr>t2koyama@marianna-u.ac.jp</vt:lpwstr>
  </property>
  <property fmtid="{D5CDD505-2E9C-101B-9397-08002B2CF9AE}" pid="4" name="_AuthorEmailDisplayName">
    <vt:lpwstr>小山照幸</vt:lpwstr>
  </property>
  <property fmtid="{D5CDD505-2E9C-101B-9397-08002B2CF9AE}" pid="5" name="_EmailSubject">
    <vt:lpwstr>心リハ：アンケート調査結果について</vt:lpwstr>
  </property>
</Properties>
</file>